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B03-157A-48AC-8FC0-731015FB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8B7-FF28-4F79-BA7F-D9D09E8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49D-BE62-4561-8C8A-E4999EB1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B7B-94B2-4C91-9CA1-AF977298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F4B-FF5F-43C1-82A9-F5420A4E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273-FB91-444E-87DE-31AFEB6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13302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69000"/>
            <a:ext cx="294408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484-824D-4139-BAB3-92B1E1A0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981-8AB4-4A64-BF65-F622309E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3920"/>
            <a:ext cx="91440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7E0-9F6F-4E8A-B54F-34000C4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950-F64C-46DB-9CC1-1940EB78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9690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869-BAB4-432E-8EE7-372EE6B8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30200"/>
            <a:ext cx="44622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969000"/>
            <a:ext cx="91440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662-C2D2-4B41-B116-A38656D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F0F-6F9C-41FC-9EFB-A56878480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1330200"/>
            <a:ext cx="91440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223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4"/>
          </p:nvPr>
        </p:nvSpPr>
        <p:spPr>
          <a:xfrm>
            <a:off x="3124080" y="6561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JE Campagne Branville 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836640"/>
            <a:ext cx="861084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760" y="652464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440" y="34920"/>
            <a:ext cx="106848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grand laboratoire au Fréjus pour MEMPHY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5157720"/>
            <a:ext cx="4681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ût estimé 1 cavité stabilisée 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é de 80,000 PMTs 12’’  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≈ 80 M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9640" y="1700280"/>
            <a:ext cx="2916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49480" y="1125360"/>
            <a:ext cx="88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sultat d’une étude préliminaire par la Société SETEC (constructeur du tu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3860640"/>
            <a:ext cx="6337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Tunnel de Sécurité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ff66"/>
                </a:solidFill>
                <a:latin typeface="Arial"/>
              </a:rPr>
              <a:t>mars 2006  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8.20m </a:t>
            </a:r>
            <a:r>
              <a:rPr b="1" lang="fr-FR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ff66"/>
                </a:solidFill>
                <a:latin typeface="Arial"/>
              </a:rPr>
              <a:t>Comité de Sécurité Franco-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ecff"/>
                </a:solidFill>
                <a:latin typeface="Arial"/>
              </a:rPr>
              <a:t>21 avril 2006</a:t>
            </a:r>
            <a:r>
              <a:rPr b="0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8.00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m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 “utiles”</a:t>
            </a: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 par la </a:t>
            </a:r>
            <a:r>
              <a:rPr b="1" sz="1800" spc="-1" strike="noStrike">
                <a:solidFill>
                  <a:srgbClr val="ccecff"/>
                </a:solidFill>
                <a:latin typeface="Arial"/>
              </a:rPr>
              <a:t>Commission Inter-Gouvernementale Franco-Ital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6004080" cy="200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36720" y="2054160"/>
            <a:ext cx="352116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LSM dans sa forme act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2565360"/>
            <a:ext cx="142920" cy="5032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3068640"/>
            <a:ext cx="863640" cy="1440"/>
          </a:xfrm>
          <a:custGeom>
            <a:avLst/>
            <a:gdLst/>
            <a:ahLst/>
            <a:rect l="l" t="t" r="r" b="b"/>
            <a:pathLst>
              <a:path w="544" h="1">
                <a:moveTo>
                  <a:pt x="0" y="0"/>
                </a:moveTo>
                <a:cubicBezTo>
                  <a:pt x="226" y="0"/>
                  <a:pt x="453" y="0"/>
                  <a:pt x="544" y="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116000" y="2708280"/>
            <a:ext cx="719280" cy="122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94280" y="4076640"/>
            <a:ext cx="2357640" cy="2587680"/>
            <a:chOff x="6794280" y="4076640"/>
            <a:chExt cx="2357640" cy="2587680"/>
          </a:xfrm>
        </p:grpSpPr>
        <p:sp>
          <p:nvSpPr>
            <p:cNvPr id="131" name=""/>
            <p:cNvSpPr/>
            <p:nvPr/>
          </p:nvSpPr>
          <p:spPr>
            <a:xfrm>
              <a:off x="7331040" y="450684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9880" y="4105080"/>
              <a:ext cx="1525680" cy="161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9440" y="4500360"/>
              <a:ext cx="136368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451640" y="4728600"/>
              <a:ext cx="1268640" cy="4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9720" y="407664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7424640" y="4895640"/>
              <a:ext cx="28800" cy="154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0800" y="4489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1680" y="5257800"/>
              <a:ext cx="831960" cy="1298520"/>
            </a:xfrm>
            <a:prstGeom prst="can">
              <a:avLst>
                <a:gd name="adj" fmla="val 25000"/>
              </a:avLst>
            </a:prstGeom>
            <a:solidFill>
              <a:srgbClr val="6e2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94280" y="530532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99"/>
                  </a:solidFill>
                  <a:latin typeface="Comic Sans MS"/>
                  <a:ea typeface="ＭＳ Ｐゴシック"/>
                </a:rPr>
                <a:t>6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2920" y="595008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3 puits = 440kT fid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380000" y="2852640"/>
            <a:ext cx="43164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95008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puits = 4x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détecteur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Č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renkov à Eau dans le m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477720"/>
          <a:ext cx="9144000" cy="6356520"/>
        </p:xfrm>
        <a:graphic>
          <a:graphicData uri="http://schemas.openxmlformats.org/drawingml/2006/table">
            <a:tbl>
              <a:tblPr/>
              <a:tblGrid>
                <a:gridCol w="1619280"/>
                <a:gridCol w="3024000"/>
                <a:gridCol w="221472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O (U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 (Jap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MPHYS (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borat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derson/Homes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chib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éj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f. M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0/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BL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8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÷2760/1280÷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sensions du dé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c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tunnels de 5 comparti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à 5 p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m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x60x60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3m x L:5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m x L:6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 fid. 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 à 7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todet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’’ H(A)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’’ P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000 (milie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x 9500 (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,000 par compart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,000 par p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uver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/10% (milieu/cot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ût estimé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M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 Ok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1M€ x #puits +100M€ infr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514480" y="5805360"/>
            <a:ext cx="366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50% excavation + 50% Photo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411280" y="1989000"/>
            <a:ext cx="2043360" cy="2509920"/>
            <a:chOff x="2411280" y="1989000"/>
            <a:chExt cx="2043360" cy="2509920"/>
          </a:xfrm>
        </p:grpSpPr>
        <p:sp>
          <p:nvSpPr>
            <p:cNvPr id="147" name=""/>
            <p:cNvSpPr/>
            <p:nvPr/>
          </p:nvSpPr>
          <p:spPr>
            <a:xfrm>
              <a:off x="2698200" y="2537640"/>
              <a:ext cx="82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1st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9720" y="3605400"/>
              <a:ext cx="82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cc"/>
                  </a:solidFill>
                  <a:latin typeface="Tahoma"/>
                  <a:ea typeface="ＭＳ Ｐゴシック"/>
                </a:rPr>
                <a:t>2nd p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411280" y="2092680"/>
              <a:ext cx="2012400" cy="232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433960" y="1989000"/>
              <a:ext cx="202068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635200" y="274572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0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1000" y="3459960"/>
              <a:ext cx="884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30,000 electr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52640" y="3613320"/>
              <a:ext cx="22608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2981520"/>
              <a:ext cx="0" cy="19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7200" y="2246040"/>
              <a:ext cx="397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Times New Roman"/>
                  <a:ea typeface="ＭＳ Ｐゴシック"/>
                </a:rPr>
                <a:t>1 p.e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85920" y="2373480"/>
              <a:ext cx="181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406520" y="3860640"/>
            <a:ext cx="822240" cy="459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7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4371840" cy="243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741640" y="5553000"/>
            <a:ext cx="373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H. Aihara @ NNN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3480" y="6021360"/>
            <a:ext cx="205668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ff0000"/>
                </a:solidFill>
                <a:latin typeface="Comic Sans MS"/>
              </a:rPr>
              <a:t>20kV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Photodete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213000"/>
            <a:ext cx="195624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mamatsu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3320" y="6021360"/>
            <a:ext cx="3006360" cy="368280"/>
          </a:xfrm>
          <a:prstGeom prst="rect">
            <a:avLst/>
          </a:prstGeom>
          <a:solidFill>
            <a:srgbClr val="00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eeds low noise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51280" y="0"/>
            <a:ext cx="4392720" cy="1953000"/>
            <a:chOff x="4751280" y="0"/>
            <a:chExt cx="4392720" cy="1953000"/>
          </a:xfrm>
        </p:grpSpPr>
        <p:sp>
          <p:nvSpPr>
            <p:cNvPr id="166" name=""/>
            <p:cNvSpPr/>
            <p:nvPr/>
          </p:nvSpPr>
          <p:spPr>
            <a:xfrm>
              <a:off x="4751280" y="25560"/>
              <a:ext cx="4392720" cy="1927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iameter               20“   &lt;=&gt;    12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ojected area      1660          615    cm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QE(typ)                   20              24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E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de-DE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60             70   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                  2500        800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st/p.e/cm       13              8   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6920" y="0"/>
              <a:ext cx="1297080" cy="1944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980000" y="6019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956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1c3956"/>
                </a:solidFill>
                <a:latin typeface="Arial"/>
              </a:rPr>
              <a:t>20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13760" y="198900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PMT Photonis@NNN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117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&amp;D Electron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6640"/>
            <a:ext cx="815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grated readout : “digital PM (bits out)”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rge measurement (12bit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ime measurement (1n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ngle photoelectron sensitivit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igh counting rate capability (target 100 MHz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rge area pixellised PM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6 low cost PM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ntralized ASIC for DAQ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ariable gain to have only one HV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 readou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ain adjust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bsequent versions of OPERA_ROC ASIC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Wireless?</a:t>
            </a:r>
            <a:endParaRPr b="0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597720" y="3716280"/>
            <a:ext cx="2511360" cy="2735280"/>
            <a:chOff x="6597720" y="3716280"/>
            <a:chExt cx="2511360" cy="2735280"/>
          </a:xfrm>
        </p:grpSpPr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6597720" y="3716280"/>
              <a:ext cx="251136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6597720" y="3716280"/>
              <a:ext cx="251136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611760" y="504720"/>
            <a:ext cx="2532240" cy="285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3080" y="602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NO-LAL-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French funding agency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ANR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 CNRS/IN2P3 and CE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329840"/>
            <a:ext cx="9144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mand for a Joint R&amp;D 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LAL-IPNO-LAP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Photonis Co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3years, 400k€, 1FTE physicist, 5FTE Engineer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L: electonics: 100k€ + 1 post-do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PNO: photodetector tests + mechanics: 18Ok€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APP: Data network: 53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otonis: PMTs provider: 64k€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71440" y="591660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pected answer in July 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1484280"/>
            <a:ext cx="9143640" cy="3270240"/>
            <a:chOff x="0" y="1484280"/>
            <a:chExt cx="9143640" cy="3270240"/>
          </a:xfrm>
        </p:grpSpPr>
        <p:grpSp>
          <p:nvGrpSpPr>
            <p:cNvPr id="181" name=""/>
            <p:cNvGrpSpPr/>
            <p:nvPr/>
          </p:nvGrpSpPr>
          <p:grpSpPr>
            <a:xfrm>
              <a:off x="5400" y="1484280"/>
              <a:ext cx="9138240" cy="3270240"/>
              <a:chOff x="5400" y="1484280"/>
              <a:chExt cx="9138240" cy="32702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00" y="1484280"/>
                <a:ext cx="9138240" cy="32702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6120" y="1641960"/>
                <a:ext cx="81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Year       2005                      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2010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                     2015                 20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0" y="204408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fety tun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39240" y="2044080"/>
                <a:ext cx="13734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11960" y="2044080"/>
                <a:ext cx="13770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00" y="2404440"/>
                <a:ext cx="133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Lab cav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5240" y="2404440"/>
                <a:ext cx="2590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Excav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7600" y="2404440"/>
                <a:ext cx="575640" cy="307080"/>
              </a:xfrm>
              <a:prstGeom prst="rect">
                <a:avLst/>
              </a:prstGeom>
              <a:solidFill>
                <a:srgbClr val="0078f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66"/>
                    </a:solidFill>
                    <a:latin typeface="Arial"/>
                    <a:ea typeface="ＭＳ Ｐゴシック"/>
                  </a:rPr>
                  <a:t>P.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3600" y="2404440"/>
                <a:ext cx="1305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tu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00" y="2761560"/>
                <a:ext cx="161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ec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39240" y="2761560"/>
                <a:ext cx="14482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 R&amp;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2761560"/>
                <a:ext cx="28065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MT prod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00" y="3168360"/>
                <a:ext cx="183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Det.prepa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5800" y="3119760"/>
                <a:ext cx="201636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Instal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3119760"/>
                <a:ext cx="187020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Outside lab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00" y="3575880"/>
                <a:ext cx="19782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1800" y="3524400"/>
                <a:ext cx="284148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P-decay, S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2080" y="3987360"/>
                <a:ext cx="1648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2880" y="398736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60720" y="398736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uper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9040" y="4346640"/>
                <a:ext cx="1438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60720" y="4344480"/>
                <a:ext cx="2482560" cy="3682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Beta b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1320" y="3121200"/>
                <a:ext cx="183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65800" y="2403360"/>
                <a:ext cx="0" cy="255600"/>
              </a:xfrm>
              <a:prstGeom prst="line">
                <a:avLst/>
              </a:prstGeom>
              <a:ln w="936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2880" y="4344480"/>
                <a:ext cx="2877480" cy="3682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onstr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51240" y="1944000"/>
                <a:ext cx="0" cy="281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3814560"/>
              <a:ext cx="3274200" cy="832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avity digg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CERN SPL construc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decision for EURISOL site at C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81280" y="20178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f26"/>
                </a:solidFill>
                <a:latin typeface="Arial"/>
                <a:ea typeface="ＭＳ Ｐゴシック"/>
              </a:rPr>
              <a:t>Guideline for a megaton scale Water Cherenk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33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mentaire à Stav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197000"/>
            <a:ext cx="2303280" cy="2303280"/>
          </a:xfrm>
          <a:prstGeom prst="donut">
            <a:avLst>
              <a:gd name="adj" fmla="val 4817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476360" y="1557360"/>
            <a:ext cx="934920" cy="719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11280" y="98064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16360" y="2349360"/>
                <a:ext cx="5879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nA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nary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00000" y="4149720"/>
                <a:ext cx="6299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creaning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L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3:07Z</dcterms:created>
  <dc:creator>J.E Campagne</dc:creator>
  <dc:description/>
  <dc:language>en-US</dc:language>
  <cp:lastModifiedBy>J.E Campagne</cp:lastModifiedBy>
  <dcterms:modified xsi:type="dcterms:W3CDTF">2006-06-21T19:34:33Z</dcterms:modified>
  <cp:revision>2</cp:revision>
  <dc:subject/>
  <dc:title>Un grand laboratoire au Fréjus pour MEMPHYS ?</dc:title>
</cp:coreProperties>
</file>